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8E9-A29B-4277-B3F0-AAF0AC04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5BAB-4098-49EC-83AE-1DE8374B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F4069-D1B7-48C9-B32C-87D80D15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DE2B6-7947-409B-8028-621796E0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9B119-7257-46CA-B817-7BD32BF1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183EB-B57D-4FD6-B356-17BE5A28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864B5-F026-477A-861E-7CC8FB1B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57A84-C406-485C-AF71-BB2C5687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53BDC-C865-4A80-95A6-612CFA2A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35D51-5B61-443B-B38D-FC7EDB0B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0ED25-1736-48F3-A746-398392B5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FC4C04-B762-4103-A74B-A5687483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FAD-1076-49F1-A2C5-813AD9E9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F629D3-431F-44B1-AF72-AA011E44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20F33E-BA15-4B35-893E-6487A518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85A886-F7D8-4AE0-B888-ECBDC212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0A94BA-173F-4B5E-94E4-A2C05481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B43711-E0E5-4276-AE91-97E58086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DC9C72-4FAE-4491-BD1D-05A55A54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6BBB99-A1C8-45BA-B06E-1E43C72D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16771C-69B5-40D2-B288-A78CC5DA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D88300-CCDF-4080-AF8D-7B8760D8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4C2D34-5636-4913-B148-522CADB1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A6C-B275-4B03-9BB2-328FA5D7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AAADFB-CB84-45AF-B0DF-612561D1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3AB11-4483-4368-9DCC-4F9266A5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36BDE-699E-46B4-A68D-9B8877DC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56D77-FA27-407F-8A71-A520F5AE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0CEF0-BCD5-4AAD-9170-77F37008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165A0-2FD5-45CB-893C-9B358902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9308F-80B6-44FC-80FE-D7F8643C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D489B-4ADE-4419-9DB7-DF871C35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17548-E8F7-42F1-A962-7B620AEA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72850-6803-4D9A-A157-F2593745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01EA-8508-4C9F-BAEF-092788F5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5207D-88B5-44F5-AAAA-B11428CC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6D5AA-2088-4F1C-9C3C-197A465D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0FA17-5034-42D0-B6AF-0436DF26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E667E-4D4B-496A-9EB6-1F27CAA5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2A021-4952-49AB-AA4D-B27AB0EC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6316E-71D6-4274-ABD7-5ED704A3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4AB26-9D55-42AE-B84A-E4AD469E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FD717-B257-4354-8030-6792435D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EF91E-3ADA-4A16-9DBD-5F35EB0D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A5D31-2781-482F-834D-9473390B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0C49-238D-48A1-9E73-633C5DFF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FA492-E1D5-42AD-8681-E048AF9F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F8C49-EB7E-4C2D-BC99-706199DF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E2742-E18A-4478-9B5C-51CED112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7F2A6-9446-4C2D-8A75-F0543DF8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F6546-BCCB-4664-9D4E-1DE58EB3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CB00CB-06F7-4928-BCF6-A3A576A7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A61797-DF6A-4CF5-8D1A-4C5DD223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6DA60B-C110-4FA3-AE1D-E74902F4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7B1B82-C6AD-4451-AF85-0FFF48D1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85673A-92C7-4C76-95C5-043AC7A7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344F-E10F-4CF8-90EB-1FCF1CED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E7576C-48A8-4D0F-8821-23F05343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A3A563-9B6C-4EA1-ACEA-40ED7E1C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C4BAAC-C22F-4B1B-A387-B0E949FF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3FE120-6465-4A9B-A571-EFAD6438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49C5E3-31AE-4548-A8F7-9B420117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AC4100-F1DB-436F-9850-FE705493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C2EDFC-2A16-4B55-A5E1-D876C72D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8FB312-CD0A-412F-959F-E766159E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8C6F0-A7A4-437F-AD32-C3E0EE77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0F0184-C0BE-4176-9CF5-930925C0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70A1-6D36-4DA4-B9B9-21BE9D19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72DCD1-7E30-40D0-BFFA-983C04DF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6AE58-75EC-446F-8B1C-7D6FAFDC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D9BCC6-1054-42F7-97EB-8728DDF8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F3B31A-A1C5-45DD-A40B-7A7A1A8B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F2C12-6745-46F7-83B2-D37A526F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46693-AF2A-450D-BB36-5E659BA8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5ABC0F-DABC-4251-9002-5490A9CF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620622-6562-49CE-BE90-83BECD7B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5D3F3-5E38-4CE3-A117-1B17FF55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CDAA-AC99-4F8E-932A-C3E6A7B8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D330-507F-405B-BC6D-CE118618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E666-FCF7-4B30-9F03-39517741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A8C-DDA7-40E4-AC9F-4EBAFC1A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518E-6770-4122-A328-3EAB9454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96EE-0A5D-402C-93FA-9204372D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6EA9-3F7B-4D77-955A-E3D6CBFC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3915-DF88-4B90-9166-5C4B47FC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E5C2-33AD-4B20-B4EE-2773EC2C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D8D84-0A49-42E6-AD6E-B271A33E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07598-7BD0-4656-A5F5-936AA6B8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DE20D-1ABE-4450-B0F5-9153113E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D8F73-F261-4FCD-A4E9-F7248256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AAEFD-3A27-4F5C-97E0-37923950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9C9-2B77-4953-8DAE-FA69EA0B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B18D2-2383-4F8C-8CB1-293B35E0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93D75-00C9-470D-AC99-C554EE9C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56012-457F-4C83-A211-46224F2B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5C70C-FCBD-4256-9895-3EC0A9DF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98D16-6A06-4C27-AD94-10A71569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F4E8-7CCF-45A4-B91D-A279A1FB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1EACB-CB3E-494D-9FC0-27774C64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DC86C-D093-4313-B7BB-A39BFE06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4EE9C-9B4D-4938-8845-3A792AC0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CE66A-9C85-45EF-8A83-94315001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9EF-B6EC-49FC-8573-58B8B0D4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C6718-4690-40C3-8FB7-E25D9CFB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254E7-E8E6-45C2-9CBE-2754AEBD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BB725-244C-402A-83BA-5DF06EE8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869FC-C6A4-4DE3-9BC8-919B6174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C15F4-8CB7-4525-904A-8DBAC9D2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58617-2C9D-48D6-8D93-589AF66B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60D13-FEC6-49A6-AFCA-5A8B430B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35DA0-CCA9-4E39-83F2-170A34CA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7115F-0A24-4E21-8A82-2057EB85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CD079-EAD1-4A97-9A53-F37C3234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6B4-88A3-4287-AAD8-BB373524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41B88-8500-4839-80C6-2C0BDA55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0BC4D-574E-4ED9-81F3-D89840D2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7AB44-6FC8-43AA-9BAF-A91FD3B7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56995-8EBA-4E23-974E-B10134E8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4A989-6ACD-47C4-900D-6FE8304E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887C5-4EB2-4ABE-A5A5-AD943C42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0C68E-2363-4489-A6CB-933DA091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C9426-D0DB-4E51-89D5-B451F5B9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4F9A4-0F2F-48EC-8D70-5B9E27F0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518B6-96E5-4F38-9E52-08E47AAE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C2D-15A3-4370-A080-34614814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9AD6C-32FC-4D25-9FB8-3A2ED8E6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00FFD-20DB-4269-8EE9-BA554AC3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4C453-BDC1-4D42-BA6D-1BC614C1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6DC21-C567-4F0D-B251-02E67231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C6BC9-EE99-416C-83AD-A6743D7B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1B4B3-BE9B-4D0D-8C97-069AF545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5CA9B-ED17-46AD-9129-DDC996EC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011A6-D625-42AA-9870-64390F09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D222A-67C0-4F5C-AF19-88DBE362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2C2CA-44AE-45EB-8B52-76FEDFB1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B828-A986-4F57-8B76-30C10706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53289-8576-4CC4-96CC-C7F0C561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9E35E-1E64-4980-BD22-83B21B71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73633-A0EE-4206-9587-CC6F0F68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53FE8-3B9E-4A75-A85D-969DC650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05F69-E499-481F-8551-7FD66738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D858E-59F0-4031-BF08-1931D2E1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2B574-C0A4-44D8-A296-493E4B3D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2B506-363E-40F4-AFC0-1905567D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61481-2FD5-4F02-8D7D-ABF79CDA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198ED-D134-484A-949D-17AB4A79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217-7E51-474B-8497-2B384C8D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DAD8B-EDC4-42FB-B03D-D4BE86FC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7D081-CCB9-432E-B1C5-49B383ED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1B17F-F9AE-4436-924E-39C094BC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5BA31-7325-48F6-8548-F613FB84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50DA5-AA5B-4249-907D-6D560162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DF748F-37F5-4DE1-AA2A-F2BE7FDE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1EA145-ECCD-4E58-8B9C-EBAAB25C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180314-3BA8-4034-BA10-4CD9196A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380663-5A0C-48B9-B0C7-FBB6A0FB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D20380-E65E-4B44-ACF5-4D8FADDF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A06-1999-466E-944D-44A6FD13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5C9DE3-18C8-48A2-98A5-14CE2227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BF3FD4-FFFA-43CD-9D4F-7D7C49BC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E9E784-76DF-4C03-A44D-C281D18B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048DCA-2627-4143-91D5-A3DA2DAF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C58A09-B45C-41BE-8C79-06646E5E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B49035-9F9D-44A6-AFA5-FE675116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DC0D06-3FE5-4845-924D-CE32835E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334FF-2B14-4474-84C8-6CFE14D8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C5DBC-00A5-4E05-B9B1-C61F7430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16EB1-FDA1-4510-A031-A1461D5F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0501-9083-4723-A8D5-E523B80E2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CB99-B55F-4402-B483-F75F1968C7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2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098B-050F-405A-BA76-7D0B1A6CAD1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6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36F3-9222-4B3C-8E69-B23E7057DE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0E84-78B9-4472-963C-6E47C9828F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1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1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6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6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8411-2987-479C-AB4C-D44FCFB6CF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09AD-838C-42CB-987D-291D5CAB1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20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34D5-F25C-46BF-9C76-62791F80C2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65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C2F4-66EF-4700-9F2B-DA9A67BD72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0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1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4C06-44A2-4FE3-A37D-08F9C1B845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1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1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050E-80F0-4C4A-877A-3899E87FFB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243A-0A7A-4BCB-B52A-F9DE5E8C4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3BD7-1224-4A42-BA20-1005D5898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0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0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1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F5E6-F801-45AB-9829-0B6A8F2AFA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rugosvet.ru/enc/nauka_i_tehnika/himiya/ZAGRYAZNENIE_OKRUZHAYUSHCHE_SREDI.html" TargetMode="External"/><Relationship Id="rId2" Type="http://schemas.openxmlformats.org/officeDocument/2006/relationships/hyperlink" Target="http://www.krugosvet.ru/enc/nauka_i_tehnika/himiya/ZAGRYAZNENIE_OKRUZHAYUSHCHE_SREDI.html" TargetMode="External"/><Relationship Id="rId3" Type="http://schemas.openxmlformats.org/officeDocument/2006/relationships/hyperlink" Target="http://www.krugosvet.ru/enc/nauka_i_tehnika/himiya/ZAGRYAZNENIE_OKRUZHAYUSHCHE_SREDI.html" TargetMode="External"/><Relationship Id="rId4" Type="http://schemas.openxmlformats.org/officeDocument/2006/relationships/hyperlink" Target="http://www.krugosvet.ru/enc/nauka_i_tehnika/himiya/ZAGRYAZNENIE_OKRUZHAYUSHCHE_SREDI.html" TargetMode="External"/><Relationship Id="rId5" Type="http://schemas.openxmlformats.org/officeDocument/2006/relationships/hyperlink" Target="http://www.krugosvet.ru/enc/nauka_i_tehnika/himiya/ZAGRYAZNENIE_OKRUZHAYUSHCHE_SREDI.html" TargetMode="External"/><Relationship Id="rId6" Type="http://schemas.openxmlformats.org/officeDocument/2006/relationships/hyperlink" Target="http://www.krugosvet.ru/enc/nauka_i_tehnika/himiya/ZAGRYAZNENIE_OKRUZHAYUSHCHE_SREDI.html" TargetMode="External"/><Relationship Id="rId7" Type="http://schemas.openxmlformats.org/officeDocument/2006/relationships/hyperlink" Target="http://www.krugosvet.ru/enc/nauka_i_tehnika/himiya/ZAGRYAZNENIE_OKRUZHAYUSHCHE_SREDI.html" TargetMode="External"/><Relationship Id="rId8" Type="http://schemas.openxmlformats.org/officeDocument/2006/relationships/hyperlink" Target="http://www.krugosvet.ru/enc/nauka_i_tehnika/himiya/ZAGRYAZNENIE_OKRUZHAYUSHCHE_SREDI.html" TargetMode="External"/><Relationship Id="rId9" Type="http://schemas.openxmlformats.org/officeDocument/2006/relationships/hyperlink" Target="http://www.krugosvet.ru/enc/nauka_i_tehnika/himiya/ZAGRYAZNENIE_OKRUZHAYUSHCHE_SREDI.html" TargetMode="External"/><Relationship Id="rId10" Type="http://schemas.openxmlformats.org/officeDocument/2006/relationships/hyperlink" Target="http://www.krugosvet.ru/enc/nauka_i_tehnika/himiya/ZAGRYAZNENIE_OKRUZHAYUSHCHE_SREDI.html" TargetMode="External"/><Relationship Id="rId11" Type="http://schemas.openxmlformats.org/officeDocument/2006/relationships/hyperlink" Target="http://www.krugosvet.ru/enc/nauka_i_tehnika/himiya/ZAGRYAZNENIE_OKRUZHAYUSHCHE_SREDI.html" TargetMode="External"/><Relationship Id="rId12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10199"/>
                </a:solidFill>
                <a:latin typeface="Monotype Corsiva"/>
              </a:rPr>
              <a:t>Как изменяется влажность  и температурный режим в  рабочих помещениях и как защититься от их неблагоприятного воздейств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ков Серг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еник 10 «а»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ыктывк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9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Цель нашего исследова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Monotype Corsiva"/>
              </a:rPr>
              <a:t>Выяснить причины изменения влажности и температурного режима в рабочих помещения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Задачи нашего исследова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Замерить температуру в помещении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равнить с температурой, которая предписана в правилах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Рассмотреть меры борьбы с неблагоприятным воздействием этих температур на организм человек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ормы температур для рабочего поме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455760" y="1598760"/>
          <a:ext cx="8226000" cy="4496760"/>
        </p:xfrm>
        <a:graphic>
          <a:graphicData uri="http://schemas.openxmlformats.org/drawingml/2006/table">
            <a:tbl>
              <a:tblPr/>
              <a:tblGrid>
                <a:gridCol w="2741760"/>
                <a:gridCol w="2742480"/>
                <a:gridCol w="2741760"/>
              </a:tblGrid>
              <a:tr h="149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ериод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птимальная температура воздух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опустимая температура воздух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4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олодный период(среднесуточная температура наружного воздуха +10гр С, и ниж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т 16</a:t>
                      </a: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˚С до 24˚С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т 13</a:t>
                      </a: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˚ до 25˚С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еплый период( от +10градусов и выш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т  18</a:t>
                      </a: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˚С до 25˚С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т 15</a:t>
                      </a:r>
                      <a:r>
                        <a:rPr b="0" lang="en-US" sz="21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˚до 28˚С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График соотношения относительной влажности и самочувствия гражда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1693800" y="2722680"/>
            <a:ext cx="569124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висимость основных факторов, влияющих на здоровье и самочувствие людей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755640" y="2085840"/>
            <a:ext cx="726444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Monotype Corsiv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Относительная влажность воздуха - важный экологический показатель среды. При слишком низкой или слишком высокой влажности наблюдается быстрая утомляемость человека, ухудшение восприятия и памяти. Продукты питания, строительные материалы и даже многие электронные компоненты допускается хранить в строго определённом диапазоне относительной влажности воздуха. Многие технологические процессы возможны только при строгом контроле содержания паров воды в воздухе производственного помещ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итер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www.krugosvet.ru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enc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nauka_i_tehnika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8"/>
              </a:rPr>
              <a:t>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9"/>
              </a:rPr>
              <a:t>himiya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0"/>
              </a:rPr>
              <a:t>/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1"/>
              </a:rPr>
              <a:t>ZAGRYAZNENIE_OKRUZHAYUSHCHE_SREDI.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http://slovari.yandex.ru/dict/krugosvet/article/6/68/1011616.ht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http://ru.wikipedia.org/wiki/%D0%AD%D0%BD%D0%B2%D0%B0%D0%B9%D1%80%D0%BE%D0%BD%D0%BC%D0%B5%D0%BD%D1%82%D0%BE%D0%BB%D0%BE%D0%B3%D0%B8%D1%8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3:02:22Z</dcterms:created>
  <dc:creator>User</dc:creator>
  <dc:description/>
  <dc:language>en-US</dc:language>
  <cp:lastModifiedBy>User</cp:lastModifiedBy>
  <dcterms:modified xsi:type="dcterms:W3CDTF">2009-11-21T14:25:45Z</dcterms:modified>
  <cp:revision>4</cp:revision>
  <dc:subject/>
  <dc:title>Как изменяется влажность  и температурный режим в  рабочих помещениях и как защититься от их неблагополучного воздействия?</dc:title>
</cp:coreProperties>
</file>